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229-7F17-4AA1-A0EA-B89BF028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E71-DE37-4E84-9DD7-04D341ED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725-C1C1-43D8-9A61-314E3D8D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6EC-BDE5-4413-9B53-55B773B1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B11C-78A8-4B30-9337-27600C72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41B4-0919-47BE-B701-74E79257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3654-8C17-4C47-8724-386E348E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04C3-B6FC-4183-9A64-AD5A6DE1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4F13-1178-49FC-9F0B-5E7DA5DA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F090-4A76-4B91-BE2D-B041B71F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1DDD-9B84-4E55-9DA5-C24CF361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4FBA-4952-4A59-951C-F5B0A6BF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0700-5AF9-4AB9-9852-EB5C6939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AEDA-226F-4294-B853-5A1EC46D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87F9-BC7C-4708-B83C-18002ED9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482D-BC6A-4035-B6EF-6DC6EB9B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F70A-BCE5-4AD2-B984-CF4888AE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2C1-1C39-4EC8-8C07-841C9EC1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987-CC22-4966-BCDB-5E2F9482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9BB-AD7C-4B7C-A596-2371B85C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112-8CF5-4A40-B29C-3964AF8F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B04-AF31-4E9D-8650-580FBF5E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EABC-ED0C-4853-941E-3FA6E4EB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1CA-5173-4121-AD3E-8DBFB1FB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EF58-1366-4F64-8160-57416F73E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DBF6-D0F5-47A7-8512-F78C695E8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Courier New"/>
              </a:rPr>
              <a:t>What we are doing to save the Murra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Funding nearly $3 000 000  from the gov. for a project to save the Murr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4653000"/>
            <a:ext cx="5618160" cy="792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66"/>
                </a:solidFill>
                <a:latin typeface="Arial"/>
              </a:rPr>
              <a:t>Project includ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00:42:09Z</dcterms:created>
  <dc:creator>Primary School</dc:creator>
  <dc:description/>
  <dc:language>en-US</dc:language>
  <cp:lastModifiedBy>Primary School</cp:lastModifiedBy>
  <dcterms:modified xsi:type="dcterms:W3CDTF">2009-06-24T00:52:51Z</dcterms:modified>
  <cp:revision>2</cp:revision>
  <dc:subject/>
  <dc:title>What we are doing to save the Murray</dc:title>
</cp:coreProperties>
</file>